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F141-6369-4ACD-883E-05E3DCDDB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A0B7-94C3-4183-BA83-3D1C1FEDF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2C4A-3935-48C2-B592-EA45ACF24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863D-1BAE-47BC-A06C-0633BB525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30B8-F6DF-464C-9EE4-E71A9274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CE87-DE84-4F2D-B373-74AB5DB51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91DF-A814-4F5C-8560-12B7A4FA5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B925-5FE6-4BCD-8D1D-F37AE1EED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7AA2-6CA6-44BB-9DA5-591EE283C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A1B4-25B8-4DCA-970F-55F5B6E8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3C80-4925-4826-ADA7-BD19512F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2CBD-5834-449B-9A4F-6A172064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4135E-D23F-4545-AB3B-4FCD5A3B22E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11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09:04Z</dcterms:created>
  <dc:creator>Peter Watson</dc:creator>
  <dc:description/>
  <dc:language>en-US</dc:language>
  <cp:lastModifiedBy>Peter Watson</cp:lastModifiedBy>
  <dcterms:modified xsi:type="dcterms:W3CDTF">2010-10-04T14:09:05Z</dcterms:modified>
  <cp:revision>1</cp:revision>
  <dc:subject/>
  <dc:title>Slide 1</dc:title>
</cp:coreProperties>
</file>